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822E-E959-48E3-9E3C-52B8E67FD4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9622-8879-42B8-A2B3-2527E365539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E8E5-2CF9-4D4F-A031-5785FCB4C1B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8F3F-1110-4545-8EC9-9A888B8622D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0994-3BD6-4278-88C5-761079BD613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D9B7-D747-4FC6-87F2-6ABB5F54FF6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6C11-1E2C-439E-8FA2-4CDA111BD2D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ED69-DED3-48CC-8407-A29484C44DA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A5AF-10B3-45CF-9BED-8BDE5EC8282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A09-EAE0-4B04-8E8D-6AF8A335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9C06-8106-41C0-878A-283AAA4F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3558-5BFB-4E7E-B541-22887674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496-DF2F-4530-AD98-930AD462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524B-EBA1-4C71-95E1-BB715B03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BE88-157F-4E67-BA0D-8D4739E5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8957-A2E5-41ED-9F8B-7DC5E606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FCED-DCCD-48CA-997E-0B474D1B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B1EF-CB8E-4DA8-B83B-A07FA083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D806-5F3F-4219-9543-7CFBB6A5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9255-710F-44E0-9015-4B0A3C16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EB6-F505-4245-A23A-733E59BE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F2D5-2583-4B3F-B760-9CEB8B53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9A07-5E15-41A7-A7E1-9D4C3F06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DC2D-B675-405C-8BE2-A3EB36A9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7CB4-B1A9-4870-B4F5-E0150AB5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5738-931F-433E-86CC-6D56AEF2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EF482-4394-4377-B023-5D086665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18772-D812-4D8E-96E9-6250CD5A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C0ED8-E74E-49F1-BA6C-38881FD2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5298F-AAEF-4F54-BA73-2BEE30A5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8A7BE-ED8C-4F6C-9BD8-185BC7EC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A91-D584-4B0A-81A8-783EC99C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D387C-5E44-4CEE-AED8-F194D561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1585C-CAC8-4602-8C3D-BF2AF0E9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08BBF-D75E-4804-B96B-A9D287B0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794AE-1124-4518-ABAF-A87B2A4C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66511-4E60-41F2-A3D1-8E2BE6EB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745FE-8A20-4145-AC91-C4B1008B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55C52-5A0E-4D80-81C2-E6AE1C20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E32E9-3B7A-4B66-9469-55B50F03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EAF37-518A-470F-80A1-0FCDCC17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F9F8C-5FD1-4A22-9F4B-994F05C6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0E9C-1308-44F1-BE2B-FBF50367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B097B-C41B-448A-9A4C-BB367204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C91A4-5936-48F2-88D1-2FF9B3A4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473AB-2F7C-4CC3-BBC5-7847F4E6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A0FE9-6BE9-45FA-B810-B2E84B78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5695D-3913-48F4-BA97-2863E1A5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E49A2-4E0E-4405-B50C-1E6722BE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63106-81CE-424D-8B4B-8327199A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AEB05-2253-4E65-969F-017CCF2E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C72AD-EF34-4F04-ACD1-5C0272DE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6897E-CC89-4A6B-9B73-2B3AB00F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A80-A25D-454A-AF29-EB73CE4C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2224E-5E00-4EB1-864A-754718DB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A7E34-6A1D-4C62-9F1A-D344F437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E4774-F01F-4589-B6CC-BFA38641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57F15-B109-4E91-8B54-68FD6803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4981E-D7DF-4B2B-B9C1-6BE39FC5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11D71-5C95-4BBD-B18C-3443E32F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C8B14-AC24-404A-B5B8-BAEA20E9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663A8-5EC0-403A-9ABF-9A67878D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02D29-3286-450A-90C0-A1F8CE01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C54BA-079E-430D-AC5D-3F1FDDB3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F40-D2AA-4842-A415-ECBA096D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61D70-8A86-4D2E-B5CC-F8E1F4ED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F0D-C2AA-42CC-9ABA-35691D64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EBAC-ED84-4127-A467-1B1EF2D3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6E1-4EA1-40DD-B063-C3AB77DD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7640" y="5788080"/>
            <a:ext cx="3422520" cy="1087560"/>
            <a:chOff x="-17640" y="5788080"/>
            <a:chExt cx="3422520" cy="108756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225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6480" y="6422040"/>
              <a:ext cx="17017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09F4-1534-4D9B-926F-2550D189DEE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EC61-3EB2-429C-95C4-4B34EAF3CB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E376-A771-463A-B72F-0066C4B98AA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A1BB-2575-4B34-8C08-2A1D6EBA9D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1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Прямоугольный треугольник 13"/>
          <p:cNvGrpSpPr/>
          <p:nvPr/>
        </p:nvGrpSpPr>
        <p:grpSpPr>
          <a:xfrm>
            <a:off x="-17640" y="5788080"/>
            <a:ext cx="3422520" cy="1087560"/>
            <a:chOff x="-17640" y="5788080"/>
            <a:chExt cx="3422520" cy="1087560"/>
          </a:xfrm>
        </p:grpSpPr>
        <p:pic>
          <p:nvPicPr>
            <p:cNvPr id="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225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76480" y="6422040"/>
              <a:ext cx="17017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52A6-5444-4BC2-B2C2-64522C7935D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0257-8C6B-48BD-8623-469627FEF5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7D72-9F20-4D0A-9F77-7A042D955B5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B52B-28DE-41F9-8CB3-250BCDD22F0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олилиния 15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Прямоугольный треугольник 16"/>
          <p:cNvGrpSpPr/>
          <p:nvPr/>
        </p:nvGrpSpPr>
        <p:grpSpPr>
          <a:xfrm>
            <a:off x="-17640" y="5788080"/>
            <a:ext cx="3422520" cy="1087560"/>
            <a:chOff x="-17640" y="5788080"/>
            <a:chExt cx="3422520" cy="1087560"/>
          </a:xfrm>
        </p:grpSpPr>
        <p:pic>
          <p:nvPicPr>
            <p:cNvPr id="179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225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76480" y="6422040"/>
              <a:ext cx="17017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182" name="Нашивка 19"/>
          <p:cNvSpPr/>
          <p:nvPr/>
        </p:nvSpPr>
        <p:spPr>
          <a:xfrm>
            <a:off x="8663040" y="4989600"/>
            <a:ext cx="183960" cy="228600"/>
          </a:xfrm>
          <a:custGeom>
            <a:avLst/>
            <a:gdLst>
              <a:gd name="textAreaLeft" fmla="*/ 0 w 183960"/>
              <a:gd name="textAreaRight" fmla="*/ 184320 w 183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Нашивка 20"/>
          <p:cNvSpPr/>
          <p:nvPr/>
        </p:nvSpPr>
        <p:spPr>
          <a:xfrm>
            <a:off x="8477280" y="4989600"/>
            <a:ext cx="183960" cy="228600"/>
          </a:xfrm>
          <a:custGeom>
            <a:avLst/>
            <a:gdLst>
              <a:gd name="textAreaLeft" fmla="*/ 0 w 183960"/>
              <a:gd name="textAreaRight" fmla="*/ 184320 w 183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F6DC-71FF-4837-A373-D5F357E656C9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06EA-0356-4856-92C7-7DCACECE4D0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049" descr=""/>
          <p:cNvPicPr/>
          <p:nvPr/>
        </p:nvPicPr>
        <p:blipFill>
          <a:blip r:embed="rId2"/>
          <a:stretch/>
        </p:blipFill>
        <p:spPr>
          <a:xfrm>
            <a:off x="299880" y="1746360"/>
            <a:ext cx="8804520" cy="18428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36760" y="4266720"/>
            <a:ext cx="665496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</a:rPr>
              <a:t>Новоминское сельское поселение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7769-8759-4BD2-B476-AF6D39F28ED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2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6025-B773-4330-860D-2D9787A6C3B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2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A22D-F757-486F-AAF0-64A26F46DF3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5331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овлен на основе требований Бюджетного Кодекса Российской  Федерации, решения Совета Новоминского сельского поселения Каневского района «О бюджетном процессе в Новоминском сельском поселении Каневского района», иных законодательных,  нормативных правовых актов Российской Федерации, Краснодарского края и Совета Новоминского сельского поселения Каневского район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7160-4C77-48D0-B195-0489FA229A5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8568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По данным Управления Федерального казначейства по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Краснодарскому краю за 2017 год администрировало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доходы местного бюджета на общую сумм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 50781,58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тыс. рублей, а именно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Налоговые и неналоговые доходы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40152,87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, в том числе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Налог на доходы физических лиц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2250,22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Единый сельскохозяйственный налог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5094,92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Налог на имущество физических лиц –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2307,47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Земельный налог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5727,46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Денежные взыскания и штрафы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0,0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Доходы от уплаты акцизов – на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4762,80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Безвозмездные поступления –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0628,71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рублей, в том числе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Прочие субсидии бюджетам сельских поселений - на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9989,61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Субвенции бюджетам поселений на осуществление первичного воинского учета на территориях, где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осуществляют военные комиссариаты - на сумму 557,70 тыс. 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Субвенции бюджетам поселений на выполнение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передаваемых полномочий - на сумму 7,6 тыс.рублей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ежбюджетные трансферты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, передаваемые бюджетам муниципальных образований на осуществление части полномочий порешению вопросов местного значения в соответствии с заключенными соглашениями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- на сумму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73,8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B104-276A-4FA1-936F-AD3A190660F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Rectangle 6" descr=""/>
          <p:cNvPicPr/>
          <p:nvPr/>
        </p:nvPicPr>
        <p:blipFill>
          <a:blip r:embed="rId2"/>
          <a:stretch/>
        </p:blipFill>
        <p:spPr>
          <a:xfrm>
            <a:off x="203040" y="171360"/>
            <a:ext cx="84772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09480" y="514440"/>
          <a:ext cx="8229600" cy="5692680"/>
        </p:xfrm>
        <a:graphic>
          <a:graphicData uri="http://schemas.openxmlformats.org/drawingml/2006/table">
            <a:tbl>
              <a:tblPr/>
              <a:tblGrid>
                <a:gridCol w="6305760"/>
                <a:gridCol w="1633320"/>
                <a:gridCol w="29052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о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2017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781,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зы по подакцизным товарам (продукции)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мым на территории Российской Феде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2,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и на прибыль, дох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0,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4,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7,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 с организац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86,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 с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0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28,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F8E5-2C9F-4581-A000-043C9FD1E37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028880"/>
            <a:ext cx="8686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актическое исполнение и общие кассовые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бюджетных ассигнований за 2017 год по  муниципальному образованию Новоминское сельское поселение Каневско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йон составили 62592,29 тыс.рублей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были осуществлены по следующим разделам бюджетной классификации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100 «Общегосударственные вопросы»-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7560,00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200 «Национальная оборона»- 557,7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300 «Национальная безопасность и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авоохранительная деятельность»- 11,27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400 «Национальная экономика»- 9043,65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500 «ЖКХ»- 18471,60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700 «Образование»- 120,78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800 «Культура или кинематография»-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3939,47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000 «Социальная политика»- 252,44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100 «Физическая культура и спорт»- 2635,38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DD47-52FC-43CF-84BD-E819235C136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Rectangle 6" descr=""/>
          <p:cNvPicPr/>
          <p:nvPr/>
        </p:nvPicPr>
        <p:blipFill>
          <a:blip r:embed="rId2"/>
          <a:stretch/>
        </p:blipFill>
        <p:spPr>
          <a:xfrm>
            <a:off x="220680" y="452520"/>
            <a:ext cx="8477280" cy="64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507960" y="457200"/>
          <a:ext cx="8229600" cy="4943520"/>
        </p:xfrm>
        <a:graphic>
          <a:graphicData uri="http://schemas.openxmlformats.org/drawingml/2006/table">
            <a:tbl>
              <a:tblPr/>
              <a:tblGrid>
                <a:gridCol w="4291200"/>
                <a:gridCol w="1476360"/>
                <a:gridCol w="1477800"/>
                <a:gridCol w="984240"/>
              </a:tblGrid>
              <a:tr h="91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, утвержденны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ое 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-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по поселен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760,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592,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31,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6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,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,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76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43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61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71,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6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39,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6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2,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5,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9B16-7DBB-422F-8C85-554A28B10D3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456840"/>
            <a:ext cx="822960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80800" indent="-19656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2017 году были приняты следующие целевые программы: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1. Муниципальная программ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деятельности органов местного самоуправления Новоминского сельского поселения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1425,7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ддержка и развитие Кубанского к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азачеств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 на территории Новоминского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ельского поселения Каневского район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на 2016-2018 годы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25,0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Пожарная безопасность в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Новоминском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ельском поселении Каневского района»-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2,00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сельского хозяйства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43,8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и содержание дорожного хозяйства Новоминского сельского поселения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 8954,3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П Краснодарского края «Развитие сети автомобильных дорог Краснодарского края в 2017 году» - 1329,5 тыс.рублей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Улучшение качества обслуживания и содержания дорог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93,1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Новоминского сельского поселения Каневского района в сфере строительства, архитектуры, землеустройства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11,3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газоснабжения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139,7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0.Муниципальная программа «Увеличение уставного фонда МУП Новоминского сельского поселения Каневского района «Благоустройство» для его финансового оздоровления» - 4000,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1.Муниципальная программа «Газификация ул.Советской в ст.Новоминской» - 375,9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2.Муниципальная программа «Осуществление мероприятий по улучшению водоснабжения» - 332,3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3.Муниципальная программа «Развитие благоустройства в Новоминском сельском поселении Каневского района» - 11011,6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4.Муниципальная программа «Содействие в обеспечении платежей за электроэнергию ресурсоснабжающей организации с целью бесперебойного снабжения водой жителей Новоминского сельского поселения» - 1701,5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5.Муниципальная программа «Развитие молодежной политики в Новоминском сельском поселении» - 128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6.Муниципальная программа «Развитие культуры и кинематографии в Новоминском сельском поселении Каневского района» - 20186,1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7.Муниципальная программа «Развитие библиотечной системы в Новоминском сельском поселении Каневского района»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8.Муниципальная программа «Празднование Дня Победы в Новоминском сельском поселении в 2017 году» - 15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9.Муниципальная программа «Издание книги «Мыза ценой не постоим» - 13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0.Муниципальная программа «Фонд социальной поддержки населения» - 11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1.Муниципальная программа «Развитие физической культуры и спорта» - 2511,5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2.Муниципальная программа «Развитие велосипедного спорта в Новоминском сельском поселении»- 6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3.Муниципальная программа «Популяризация спортивных единоборств в Новоминском сельском поселении» - 11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4.Муниципальная программа «Популяризация футбола в Новоминском сельском поселении» - 60,00 тыс.рублей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11E7-2802-4C4A-BFC2-4512E2B490B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2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87B0-A90B-49DB-9315-503B1E3EEDC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456840"/>
            <a:ext cx="8229600" cy="58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E773-3239-4A3E-8708-CA5A207E541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logovik</dc:creator>
  <dc:description/>
  <dc:language>en-US</dc:language>
  <cp:lastModifiedBy>ГЫУК</cp:lastModifiedBy>
  <dcterms:modified xsi:type="dcterms:W3CDTF">2019-10-18T05:57:0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